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ACA-B9B5-400B-BD76-874ABB49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8D9E-12A5-40DD-BD78-04B6AA4C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EDD-22D6-4A07-A900-C652B699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BBE3-F419-4BFA-AE78-700F81C5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C603-5CBD-4689-BBF2-85050197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8B8E-7EB4-4FA9-9670-C62FE0AA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B23D-F47E-4C87-BFE0-9BB150AE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B53B-586B-404B-94D0-A3702DE9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B9BC-336F-47D3-85B9-DF8FC862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3BA2-4551-42EC-89D9-22A62F87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F44E-CA5C-4CA3-B49B-73C75126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C9C-2DEC-4C3E-AADE-2F7545A1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95A5-FE6F-4A8A-A8D8-DEC908F8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7D8D-A525-4F8E-BAA9-675D7C72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63CE-3F6C-410F-B051-E09B812F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D369-E84F-460D-95B4-B28B05D7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B012-2C4B-41C4-A381-40520A49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7B5-22C9-46C5-82BC-FCF8050B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9B2-FDC4-4924-B0A8-23DDB6AF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C579-F4F5-4C8E-B9FC-A35AFFD1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C90-7DDA-4036-95CC-66AF261E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628-672E-4651-9AF1-2A062750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444-E49E-4E17-9D01-D3AFD85D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C23-389C-4DCF-8884-ACC4B332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EA14-76AE-4B3F-B681-409724394D9D}" type="slidenum">
              <a:rPr b="0" lang="zh-TW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2F38-F446-4B6E-B733-723EB155115B}" type="slidenum">
              <a:rPr b="0" lang="zh-TW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163.20.181.45/&#37329;&#23665;&#39640;&#20013;&#27966;&#39376;&#40670;&#21508;&#26657;&#36039;&#26009;/&#37329;&#23665;&#39640;&#20013;/&#26657;&#21209;&#26371;&#35696;/101&#23416;&#24180;&#26657;&#21209;&#26371;&#35696;/&#26657;&#21209;&#26371;&#35696;&#22577;&#21578;&#38468;&#20214;/&#23376;&#22899;&#25945;&#32946;&#35036;&#21161;&#34920;.pdf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Arial"/>
                <a:ea typeface="文鼎粗行楷"/>
              </a:rPr>
              <a:t>人事室報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101</a:t>
            </a:r>
            <a:r>
              <a:rPr b="0" lang="zh-TW" sz="48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學年度第</a:t>
            </a:r>
            <a:r>
              <a:rPr b="0" lang="zh-TW" sz="48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2</a:t>
            </a:r>
            <a:r>
              <a:rPr b="0" lang="zh-TW" sz="48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學期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期初校務會議報告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672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文鼎粗行楷"/>
                <a:ea typeface="文鼎粗行楷"/>
              </a:rPr>
              <a:t>101</a:t>
            </a:r>
            <a:r>
              <a:rPr b="0" lang="zh-TW" sz="4800" spc="-1" strike="noStrike">
                <a:solidFill>
                  <a:srgbClr val="000000"/>
                </a:solidFill>
                <a:latin typeface="文鼎粗行楷"/>
                <a:ea typeface="文鼎粗行楷"/>
              </a:rPr>
              <a:t>學年度第</a:t>
            </a:r>
            <a:r>
              <a:rPr b="0" lang="zh-TW" sz="4800" spc="-1" strike="noStrike">
                <a:solidFill>
                  <a:srgbClr val="000000"/>
                </a:solidFill>
                <a:latin typeface="文鼎粗行楷"/>
                <a:ea typeface="文鼎粗行楷"/>
              </a:rPr>
              <a:t>2</a:t>
            </a:r>
            <a:r>
              <a:rPr b="0" lang="zh-TW" sz="4800" spc="-1" strike="noStrike">
                <a:solidFill>
                  <a:srgbClr val="000000"/>
                </a:solidFill>
                <a:latin typeface="文鼎粗行楷"/>
                <a:ea typeface="文鼎粗行楷"/>
              </a:rPr>
              <a:t>學期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文鼎粗行楷"/>
                <a:ea typeface="文鼎粗行楷"/>
              </a:rPr>
              <a:t>子女教育補助費開始申請了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101</a:t>
            </a:r>
            <a:r>
              <a:rPr b="0" lang="zh-TW" sz="36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學年度第</a:t>
            </a:r>
            <a:r>
              <a:rPr b="0" lang="zh-TW" sz="36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2</a:t>
            </a:r>
            <a:r>
              <a:rPr b="0" lang="zh-TW" sz="36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學期子女教育補助費即日起開始申請了，請依「</a:t>
            </a:r>
            <a:r>
              <a:rPr b="0" lang="zh-TW" sz="3600" spc="-1" strike="noStrike" u="sng">
                <a:solidFill>
                  <a:srgbClr val="999933"/>
                </a:solidFill>
                <a:uFillTx/>
                <a:latin typeface="文鼎粗行楷"/>
                <a:ea typeface="文鼎粗行楷"/>
                <a:hlinkClick r:id="rId1"/>
              </a:rPr>
              <a:t>子女教育補助表</a:t>
            </a:r>
            <a:r>
              <a:rPr b="0" lang="zh-TW" sz="36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」相關規定，符合請領之同仁，於</a:t>
            </a:r>
            <a:r>
              <a:rPr b="0" lang="zh-TW" sz="36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102</a:t>
            </a:r>
            <a:r>
              <a:rPr b="0" lang="zh-TW" sz="36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年</a:t>
            </a:r>
            <a:r>
              <a:rPr b="0" lang="zh-TW" sz="36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3</a:t>
            </a:r>
            <a:r>
              <a:rPr b="0" lang="zh-TW" sz="36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月</a:t>
            </a:r>
            <a:r>
              <a:rPr b="0" lang="zh-TW" sz="36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1</a:t>
            </a:r>
            <a:r>
              <a:rPr b="0" lang="zh-TW" sz="36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日前儘速檢證提出申請，申請表格可於學校網站—各單位網頁—人事室—相關資料下載或至人事室索取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02:18:41Z</dcterms:created>
  <dc:creator>TPC</dc:creator>
  <dc:description/>
  <dc:language>en-US</dc:language>
  <cp:lastModifiedBy>TPC</cp:lastModifiedBy>
  <dcterms:modified xsi:type="dcterms:W3CDTF">2013-02-05T02:30:46Z</dcterms:modified>
  <cp:revision>2</cp:revision>
  <dc:subject/>
  <dc:title>人事室報告</dc:title>
</cp:coreProperties>
</file>